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BBBE-E88E-48F3-81F4-7455FA77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4180-1395-4189-849A-099EA8A4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48CF-C7D1-4BB3-A9D3-B2F3D56D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5AF9-CE28-47CD-96E2-A4C2D764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A695-198C-4711-92BE-A896EBE5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C697-1E02-4A63-BEC7-BD2A3F7A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3AA3-91F0-43C9-83A7-C546496E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E27A-AFAC-4D67-B968-C5741295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BD37-C873-4E74-9316-286834AC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2E44-FE7A-4F8E-90B6-8A9CF091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0961-C516-4C55-8FEB-97E7E71E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158F-321D-481B-A257-C3D81C5F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179E-D3A5-471F-846E-D96F0A9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90D7-EB34-4258-9BD9-6CC92282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555A-384B-42A1-9F7D-65092E8D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10A9-9AA5-4A39-B5D0-B88F59A5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D469-958D-4B23-8556-CCF600E0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D4E6-9AC2-4197-90B9-133FF9C1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8278-BADC-440C-86FC-341C9F8F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061C-71E0-4176-9B31-1CC81DE4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78BD-7C6A-427A-A7D7-C55E92A0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7E4F-E874-48DA-84D8-5BA407C5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AC44-33EE-461C-99EB-AE9B7D0E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D859-ADA1-4DBF-B855-3545767C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111B-4FCC-4B8C-B743-95B09B798B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F2C2-3047-4287-BE74-85D39EADE4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bs.org/wgbh/amex/pill/peopleevents/p_mr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ow accurate was the stereo type of women in the 1950’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Jessica Gagn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clusion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fought for equality in work places and in the cou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d their abilities to work along side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eotype applied to some women but a large majority of women were not at home being a “good wife.” They were out in the world fighting for their right to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it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umann, Caryn E. "National Organization for Women." 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ostwar America. Sharpe Online Refere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(2010): n. pag. Web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7 May. 2010  &lt;http://www.sharpe-online.com/SOLR/a/show-content/fullarticle/6/book006-PART1-article381&gt;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pbs.org/wgbh/amex/pill/peopleevents/p_mr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rker, Jenny. "Women's Studies." 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ostwar America. Sharpe Online Referenc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(2010): n. pag. Web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Jun. 2010  &lt;http://www.sharpe-online.com/SOLR/a/show-content/fullarticle/6/book006-PART1-article588&gt;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50’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6816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wight D. Eisenhower was p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tnam 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 ‘n’ 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 Rights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949400" cy="218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4256" t="5815" r="8513" b="6964"/>
          <a:stretch/>
        </p:blipFill>
        <p:spPr>
          <a:xfrm>
            <a:off x="2590920" y="419112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943600" y="4343400"/>
            <a:ext cx="28195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tereotyp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 stay at home w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ks, cleans, takes care of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n’t have sex before marri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 married as soon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obed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ved to love the domestic homemaker life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529320" y="1219320"/>
            <a:ext cx="2233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4724640" cy="2549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tereotype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lots of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who worked when they could afford not to were considered selfish for not putting all energy into the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merican Media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stere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rayed women as fragile and very 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as propagan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 Love Luc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howed how women were supposed to look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merican School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stere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ught home making skills in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hot iron should be used when pressing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 silk sli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 woolen swea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 linen skir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 crepe 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went to college to get M.R.S. Deg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ot for career purposes, for hom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orking Wome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ed being taken serious as workers during WW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ed in factories and worked in mili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uilt parts, flew planes, and worked as nurs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300,000 women worked in aircraft industry al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en came back from war some women stopped working but many tried to conti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9%of women wo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% were marr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gregating Wome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way of trying to force women back to home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p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harass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Organization for W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ght the stereotype and its limits through th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ed to pass reforms for equality in work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ved it would make working easier for women and shine light on true 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a survey of workers in fac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y of 146 executives revealed that the productivity levels of women workers was equal to or greater than those of male workers engaged in similar work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9:54:03Z</dcterms:created>
  <dc:creator>Mildred Thomas</dc:creator>
  <dc:description/>
  <dc:language>en-US</dc:language>
  <cp:lastModifiedBy>11348</cp:lastModifiedBy>
  <dcterms:modified xsi:type="dcterms:W3CDTF">2010-06-10T12:33:06Z</dcterms:modified>
  <cp:revision>4</cp:revision>
  <dc:subject/>
  <dc:title>How accurate was the stereo type of women in the 1950’s?</dc:title>
</cp:coreProperties>
</file>